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442A8-27B4-4658-93C0-C3997A55DB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7240" bIns="4680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As with a certain encyclopedia, it’s a little easier to say what this presentation is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If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A36A-541B-4822-859A-C237CED1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BC89-CDFC-4D60-8DB8-65218037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54E-ACA7-4B02-B354-C949F58E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E29-2563-418D-9F80-8194A69C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7BAC-260A-4C65-9429-A39C4FBA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25C5-0CC8-4B18-871B-B63107A4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374D-2128-4A54-BF00-376F870F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2D61-A3D0-4E8B-BFA3-AA6377C5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B807-E209-4FE7-820C-D3B8A861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2A6C-6DA7-48EC-9623-69700060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5124-A0D4-428B-9BE8-006823DB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7BDF-3E33-4FF4-BAF4-7A634843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A177-3C9F-4C56-8AD2-0CDDC126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F1D0-D9F7-4222-BFCF-635CA7AB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B031-9ED9-447F-975C-C604CAA1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9B15-FC38-4431-ADA6-B774E4D4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3981-7D7A-4640-8A00-8C57CACA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CD18-4434-4BC6-B18A-419D463D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5A92-9ACE-4302-AE0D-BD7419D4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F75-471D-4BE2-AC02-965E5AE4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E4C5-C049-4DA5-9D77-AD165A46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4092-5E0B-4FFC-9220-35E9ED0B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5319-2F2D-4057-B995-07A5E782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DC2-3E26-4175-A8B2-3981F17F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60000">
              <a:off x="3368160" y="4115880"/>
              <a:ext cx="4876920" cy="60984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04D100-66B9-40B2-AEB6-A82EF1B4A7A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60000">
              <a:off x="3368160" y="4115880"/>
              <a:ext cx="4876920" cy="60984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E81141F-BB10-4AEC-B881-2F32CF7724A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-446400"/>
            <a:ext cx="748800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432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Making MediaWiki Fly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37760" y="2879640"/>
            <a:ext cx="5681880" cy="16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1712880" y="5572080"/>
            <a:ext cx="51274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urence “GreenReaper” Par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Use subdomains as virtual CD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read the load between Apache proces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vert HTTP connection limi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n't overdo it - two to four ma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ss necessary with newer brows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y to keep image domain cookie-fr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best: use media po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 do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av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 media pool, right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eyond one serve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131580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5000"/>
          </a:bodyPr>
          <a:p>
            <a:pPr marL="289800" indent="-28980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mcached on separate machine[s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800" indent="-28980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b cache on different machines, contin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800" indent="-28980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dicated serv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0000" indent="-24120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arch [lucene, sphinx] and images [nginx, lightpptd]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9800" indent="-28980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base server on separate machine, add sla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800" indent="-28980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dicate one Apache to a popular langu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800" indent="-28980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ore revision text in secondary datab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0000" indent="-24120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 primary lo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9800" indent="-28980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atenate and compress revision text furt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800" indent="-28980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++ - see Domas' present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clusion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4000"/>
          </a:bodyPr>
          <a:p>
            <a:pPr marL="320760" indent="-32076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ed matters: fast pages = more users, edi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0760" indent="-32076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Wiki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e fast, and scales w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0760" indent="-32076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che everything, client and server si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0760" indent="-32076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t what you don't need, shrink what you 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0760" indent="-32076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read requests across multiple doma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0760" indent="-32076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asur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6600" indent="-2667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balizer, APC, profiler, MRTG . .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onus tip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4000"/>
          </a:bodyPr>
          <a:p>
            <a:pPr marL="286560" indent="-28656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lock robots from /w/ and Special:Rand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6560" indent="-28656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HTML 5 to trim docty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22440" indent="-23832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cut optional headers - like &lt;head&gt; (soon in W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6560" indent="-28656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une your server with a large congestion wind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6560" indent="-28656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HTCP to purge the web cac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6560" indent="-28656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features ''really'' necessar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22440" indent="-23832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 cut buttons, http: in external/interwiki/lang lin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2440" indent="-23832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oke (and patched) MediaWiki multiple ti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lnSpc>
                <a:spcPct val="93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lus several web crawlers :-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onus tip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ck output for unnecessary com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ser debug output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parate hard disks for logs, DB, web ser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f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tensions like DPL, Google Maps can be a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dplcache=XXX and allowcachedresults=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Wikimedia-servers-2009-04-05" descr=""/>
          <p:cNvPicPr/>
          <p:nvPr/>
        </p:nvPicPr>
        <p:blipFill>
          <a:blip r:embed=""/>
          <a:stretch/>
        </p:blipFill>
        <p:spPr>
          <a:xfrm>
            <a:off x="360360" y="-235080"/>
            <a:ext cx="8551800" cy="919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exitrate" descr=""/>
          <p:cNvPicPr/>
          <p:nvPr/>
        </p:nvPicPr>
        <p:blipFill>
          <a:blip r:embed=""/>
          <a:stretch/>
        </p:blipFill>
        <p:spPr>
          <a:xfrm>
            <a:off x="162000" y="0"/>
            <a:ext cx="88376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140360" y="6480000"/>
            <a:ext cx="467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Artur (crucially) at Wik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ntrodu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peed mat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&lt; 1 sec or bust for us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ediaWiki can be slow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but it doesn't have to be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ess is m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fewer hits means a higher capac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t's 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ha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 proble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kimedia has . . 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Wikimedia-servers-2009-04-05" descr=""/>
          <p:cNvPicPr/>
          <p:nvPr/>
        </p:nvPicPr>
        <p:blipFill>
          <a:blip r:embed=""/>
          <a:stretch/>
        </p:blipFill>
        <p:spPr>
          <a:xfrm>
            <a:off x="447840" y="-193680"/>
            <a:ext cx="8551800" cy="919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 proble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kimedia has hundreds of servers worldwi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can afford: (part of?) one ser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rd memory, CPU, bandwidth/transfer limi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tency issues for overseas us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: You gotta squeeze every by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de, data, web cach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3920" indent="-31392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idea: deflect expensive requests to cac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C - vital speedup for code an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1840" indent="-26100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are code, no cache message fi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1840" indent="-26100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une user TTL to &gt; 1 d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b cac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1840" indent="-26100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quid or (better?) Varnish. Faster than Apach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B query cach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1840" indent="-26100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ybe. Some results already in AP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't need memcac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1840" indent="-26100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C is fine for a single ser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ducing and spreading request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0240" indent="-30024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tency number one kill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1960" indent="-2498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kb initial transfer, 17k recv. window, 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 compr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1960" indent="-2498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PU cost minimal vs. latency, and cach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long cache times and ETags (ignore Yslow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are skin images and CSS/JS between si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t headers, comments, merge CSS/J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1960" indent="-2498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nt from 1.6kb to 1.06kb in headers, on every p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CSS sprites for homepage imag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hrink your CSS/JS and imag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5000"/>
          </a:bodyPr>
          <a:p>
            <a:pPr marL="324000" indent="-32400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uge win on first page load = first impr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held devices may only cache small fi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't obfuscate - heavy client CPU penal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exed PNGS &lt; 256 col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4160" indent="-2696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r logo is 2kb, you'd never know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93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y Google Page Spe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4160" indent="-2696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will compress images for yo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119640" y="3419640"/>
            <a:ext cx="2754360" cy="180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3:20:17Z</dcterms:created>
  <dc:creator>Laurence Parry</dc:creator>
  <dc:description/>
  <dc:language>en-US</dc:language>
  <cp:lastModifiedBy>Laurence Parry</cp:lastModifiedBy>
  <cp:lastPrinted>2006-08-30T14:55:30Z</cp:lastPrinted>
  <dcterms:modified xsi:type="dcterms:W3CDTF">2009-07-25T17:06:55Z</dcterms:modified>
  <cp:revision>263</cp:revision>
  <dc:subject/>
  <dc:title>A Tale of Two Wikis </dc:title>
</cp:coreProperties>
</file>